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2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83D-6FCC-4267-BB0B-AB62CF1D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erson reads book…Others hold up cards when strategy is being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8A4-6646-41B2-816D-FF2992D0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3C8-A934-407A-8877-6130F76E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DB5-07DB-48AE-8F46-1951DEB6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176-B84F-4DF1-B9C6-BF726519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812-B3A9-4375-B514-FC08E55F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F3F-8EF6-40EC-A433-7E995619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B00-DD5D-4697-845C-2914EF3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664-4970-43D1-A69E-DE9E0B8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76C-2876-49DF-A8BC-DDFF779A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8BA-FA83-42CB-967E-F9BC44F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312-A610-43AF-984D-4E560F7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6C5-23B4-4D16-A71F-A16D915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A0C-D506-458E-BA51-940F75B7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aderstoolbox.wikispaces.com/Resources" TargetMode="External"/><Relationship Id="rId3" Type="http://schemas.openxmlformats.org/officeDocument/2006/relationships/hyperlink" Target="http://www.u46teachers.org/mosaic/tools/Strategy Rubrics.doc" TargetMode="External"/><Relationship Id="rId4" Type="http://schemas.openxmlformats.org/officeDocument/2006/relationships/hyperlink" Target="http://liberty.k12.mo.us/jh/staffresources/documents/Comp  Strategies with questions.pdf" TargetMode="External"/><Relationship Id="rId5" Type="http://schemas.openxmlformats.org/officeDocument/2006/relationships/hyperlink" Target="http://www.ecboe.org/dena/Reading Strategies.htm" TargetMode="External"/><Relationship Id="rId6" Type="http://schemas.openxmlformats.org/officeDocument/2006/relationships/hyperlink" Target="http://www.smbsd.org/page.cfm?p=904" TargetMode="External"/><Relationship Id="rId7" Type="http://schemas.openxmlformats.org/officeDocument/2006/relationships/hyperlink" Target="http://www.cccoe.net/tdf/Beltramo/rs/StrategiesBookmark.pdf" TargetMode="External"/><Relationship Id="rId8" Type="http://schemas.openxmlformats.org/officeDocument/2006/relationships/hyperlink" Target="http://www.cccoe.net/tdf/Beltramo/rs/StrategiesBookmark.pdf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ers Tool Box: Keys to Building 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yn Marsden-Mentor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oll County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marsd@k12.car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tool_chest_peek_sm_wht.gif"/>
          <p:cNvPicPr/>
          <p:nvPr/>
        </p:nvPicPr>
        <p:blipFill>
          <a:blip r:embed="rId2"/>
          <a:stretch/>
        </p:blipFill>
        <p:spPr>
          <a:xfrm>
            <a:off x="6400800" y="4572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362320" y="2438280"/>
            <a:ext cx="374328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85800" y="1600200"/>
            <a:ext cx="80773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ading for Meaning isOu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ission Every Time We Read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structing meaning is our goal every time we read, how can we teach children the importance of using reading strategies to build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aders Tool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for a construction worker to build a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… What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for a reader to build mea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…What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teach students the importance of using reading strategies to build meaning or understanding is to make the analogy to the tools a carpenter uses to build a hou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20069400">
            <a:off x="5105520" y="2133720"/>
            <a:ext cx="1049040" cy="1471320"/>
          </a:xfrm>
          <a:prstGeom prst="rect">
            <a:avLst/>
          </a:prstGeom>
          <a:ln w="0">
            <a:noFill/>
          </a:ln>
        </p:spPr>
      </p:pic>
      <p:pic>
        <p:nvPicPr>
          <p:cNvPr id="76" name="j0314355[1]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714600" cy="1839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 rot="1926600">
            <a:off x="6541560" y="1916280"/>
            <a:ext cx="1667160" cy="13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rot="19389600">
            <a:off x="7518240" y="3843360"/>
            <a:ext cx="1295640" cy="103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764000">
            <a:off x="7009920" y="457200"/>
            <a:ext cx="1447920" cy="103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248520" y="5181480"/>
            <a:ext cx="1439640" cy="10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uld You Use This Lesson in Your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beginning of the year to set a purpose for learning rea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out the year to assess where students are with their understanding how the strategies can be used to buil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ime students add a new tool to their 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year to reinforce the concept of reading strategies are what good readers use to build meaning when they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ontent area instruction to remind students that the same strategies they use in reading can help them build meaning when they read in the conte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This Lesson Be Ext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757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Point and Handouts from this sess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aderstoolbox.wikispaces.com/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brics by Grade Level to Assess Reading Strategies Use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46teachers.org/mosaic/tools/Strategy%20Rubrics.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on Strategies Poster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erty.k12.mo.us/jh/staffresources/documents/Comp%20%20Strategies%20with%20question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on Strategies with Posters and Examples of Anchor Charts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cboe.org/dena/Reading%20Strategi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ta Maria Bonita School District Posters and Charts for Reading and Comprehens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mbsd.org/page.cfm?p=9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g Strategy Bookmark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cccoe.net/tdf/Beltramo/rs/StrategiesBookmark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Though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Like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6511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295280"/>
          <a:ext cx="7772400" cy="4067280"/>
        </p:xfrm>
        <a:graphic>
          <a:graphicData uri="http://schemas.openxmlformats.org/drawingml/2006/table">
            <a:tbl>
              <a:tblPr/>
              <a:tblGrid>
                <a:gridCol w="2590920"/>
                <a:gridCol w="2236680"/>
                <a:gridCol w="294480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m Up (10 minute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cus Participant Learn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Reading Strategies and How they Help Students Build 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ive Participants a Chance to Recall Strategies their Students Use to Build Mea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ner Discussion, Power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ation of Readers Tool Box Les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5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How the Readers Toolbox Can Introduced to Students and How it Can Help Students Build 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eo, Group Discu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s (10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Address Conce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ure     (5 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feedback for presen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/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Reading Strategies Are Our Students U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predictions propels the reader forward into the text.  Predictions give the reader a purpose for reading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hat should readers think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I think will happen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___ happened, I think ____ will happen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guessing this will be about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/heading/pictures make me think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author hasn’t told me this, I think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 about the topic, title, author and events helps students bring their background knowledge into the text to deepen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What should readers be think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remind me of some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is ever happened to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know someone like him or her? Am I like this charac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ever felt this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information confirm or conflict with what I’ve read in other sour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help students build an awareness of what they do not know  and develop a purpose for reading on or re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hat should readers be think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author saying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at happ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this characte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kes me wonde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tudents monitor their comprehension and realize that something does not make sense, they are able to apply, “fix up” strategies to improve their understanding of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What should readers be thin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aking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, what’s going on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ve I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need to re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is word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ext clues help me fill in the miss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helps students pull all of the major events of a story together to demonstrate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What should readers be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is mainly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or’s most important ideas w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is story organ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ideas in the text presented with convincing evi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ing helps students deepen their understanding of the text by letting them see in their minds what the author has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hat should readers be thin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ictures/scenes in my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I hear, taste, feel, or sm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 characters, events, setting look like in my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picture this new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8:51:59Z</dcterms:created>
  <dc:creator>ccps</dc:creator>
  <dc:description/>
  <cp:keywords/>
  <dc:language>en-US</dc:language>
  <cp:lastModifiedBy>ccps</cp:lastModifiedBy>
  <dcterms:modified xsi:type="dcterms:W3CDTF">2008-04-15T00:43:23Z</dcterms:modified>
  <cp:revision>10</cp:revision>
  <dc:subject/>
  <dc:title>Reader Tool Box: Keys to Building Mea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